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8829E-3065-433A-9B0E-419E84A84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BF539-2652-4C5B-810A-A64C7FFB6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A5969-4546-4621-984D-20033A545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8A375-51BC-402E-B3CB-5756F32E9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19DF3-7279-4F4A-B489-A3886DEBC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85AFB-23FB-4277-9B16-90C00473D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3F639-B22B-4B29-BB96-8F75D9D29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470AF-71F4-455D-9F20-308236E90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67AB7-4F40-469D-A6F8-67C83F4AE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3D7F1-28D3-4353-B4CF-ECD36AF05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61FE1-9518-44C5-9920-CF010DBC0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87396-9414-4DF5-8AEB-D4270CA13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4F60-0530-4F83-80A8-388FB57C38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p:nvPr/>
        </p:nvSpPr>
        <p:spPr>
          <a:xfrm>
            <a:off x="746280" y="1027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 name=""/>
          <p:cNvSpPr txBox="1"/>
          <p:nvPr/>
        </p:nvSpPr>
        <p:spPr>
          <a:xfrm rot="18687000">
            <a:off x="811800" y="1702440"/>
            <a:ext cx="2276640" cy="11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SESIUNEA IUNIE-IULIE</a:t>
            </a:r>
            <a:endParaRPr b="0" lang="en-US" sz="1400" spc="1" strike="noStrike">
              <a:ln w="9360">
                <a:solidFill>
                  <a:srgbClr val="000000"/>
                </a:solidFill>
                <a:miter/>
              </a:ln>
              <a:solidFill>
                <a:srgbClr val="000000"/>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9" name="Picture 8" descr=""/>
          <p:cNvPicPr/>
          <p:nvPr/>
        </p:nvPicPr>
        <p:blipFill>
          <a:blip r:embed="rId1"/>
          <a:stretch/>
        </p:blipFill>
        <p:spPr>
          <a:xfrm>
            <a:off x="5257800" y="1752480"/>
            <a:ext cx="2943360" cy="3019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ws20</cp:lastModifiedBy>
  <dcterms:modified xsi:type="dcterms:W3CDTF">2012-04-12T08:10:41Z</dcterms:modified>
  <cp:revision>32</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